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85EF-D0F9-4910-9AB3-F9BBB779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98D2-8540-416F-9677-60F053C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7761-4C23-4336-9325-D0A85486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E73D-76E8-4CDB-B522-F50512D4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3F03-E0D9-4FB2-AF6A-6DCC108A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E05-5862-43C6-9459-B29D81E3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A3AF-2FBA-41EF-B9E5-5972DD19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1136-3FE4-4E28-B1CD-1062DE0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FEE7-BD6E-48BB-ACCC-8D05E304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6C2C-437E-4CE5-A97B-10FC672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0A07-5498-426B-B37D-75793D1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5584-651A-45BE-B36F-2C5383E3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AE56-DCC9-4CE5-8C09-FC2CAFC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541-6741-4EEE-BB3C-22EE2FE0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800B-D54A-44A5-A8D9-7AD40882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49AF-A5A8-4FD6-A799-B69AB988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676-8BB5-4AAD-958D-033AEE9B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F3D1-3838-4557-9E01-043CD073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195B-C61B-4A2D-ACC7-822BA22C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C195-9784-4433-B223-9C8B89C8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4EE6-7846-45EC-AD4F-0BE25AE7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7E18-7A78-424D-B9F1-883163C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B308-B8AF-4EEE-9426-0D208FC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9D32-9E0A-49DC-8D20-E9C4DA2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4A8B-CBDD-4BE7-A727-9D96D38314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8608-9B23-4B33-8FFB-69A7C17225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ulticultural Australi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sealee Pea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ovember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0160" cy="1700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8880" y="149400"/>
            <a:ext cx="62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mou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s a young woman from a Sudanese backgr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77080" y="189000"/>
            <a:ext cx="1971720" cy="93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11640" y="1413000"/>
            <a:ext cx="1728720" cy="1228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1346400" cy="136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1795320" cy="107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69760" y="9810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has arrived on her own and her families are still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refugee camps in Keny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15200" y="22766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is 22 and lives by hersel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290880" y="2997360"/>
            <a:ext cx="96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has never lived in the city, but has caught on quickly working out public trans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12680" y="364500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ants to learn how the system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43920" y="4149720"/>
            <a:ext cx="89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ants to keep improving her English and doesn’t know what she wants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3480" y="5877000"/>
            <a:ext cx="91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feels isolated and isn’t actively involved with the Sudanese community th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would like to 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51928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92360" y="5316480"/>
            <a:ext cx="1368720" cy="1541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127320" cy="156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34280" y="515772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56000" y="62064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9257600">
            <a:off x="-358920" y="764640"/>
            <a:ext cx="37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ry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s just moved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new suburb and was a teac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years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42280" y="5392800"/>
            <a:ext cx="286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veryone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ound her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ng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icipating in lif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fe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visi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96960" y="3500280"/>
            <a:ext cx="345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he is feeling depressed 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er life and fe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ke there is 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urpose in her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y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20480" y="2708280"/>
            <a:ext cx="403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She has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health needs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and wants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stay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ouch with her children wh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live in another state but doesn’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know how to use a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2637000"/>
            <a:ext cx="2259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 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n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doesn’t kn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yone in the local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3:30:58Z</dcterms:created>
  <dc:creator>RAC</dc:creator>
  <dc:description/>
  <dc:language>en-US</dc:language>
  <cp:lastModifiedBy>RAC</cp:lastModifiedBy>
  <dcterms:modified xsi:type="dcterms:W3CDTF">2010-11-01T00:03:01Z</dcterms:modified>
  <cp:revision>6</cp:revision>
  <dc:subject/>
  <dc:title>Multicultural Australia</dc:title>
</cp:coreProperties>
</file>